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E48-42E0-4F3C-8EA7-A5DC05F3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B1C-8662-4E33-BBC4-8D28B653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5D7-3BA8-4C00-B8A4-388AFC40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1A3-6331-4A6C-AA99-BEF34CCE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A142-327B-40DA-8E65-1FF44865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444C-DC69-4A65-861A-81584027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5A93-1708-4014-8574-89DDC85E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DD9C-C810-4674-A7EB-E37DB213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2279-457F-4226-9D54-7A344710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2C99-B363-40FF-9135-688479CA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2D3F-A50E-4B0B-98E3-5351ADB4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CCA-66E5-4155-8BAD-5F6A1789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0C29-E2C7-496E-BA45-91C9B50C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B152-FB20-425F-AA59-E0F029B8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218E-F69E-4DFF-B9B9-5715844A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0334-EDF9-4067-B7F5-6207ADA1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981B-3602-4096-9883-C436A5D3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35C4-A206-4169-8139-ADAD0582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6F2D-44CF-4CB4-9B19-D75CFB7E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5A758-6062-452C-B645-A322F615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6C072-0536-45F3-B8A3-9574CA01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FAA1-09F1-430B-A3A1-4190539D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329-8A09-455D-8131-13B5BFAA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D938-BE4E-4F43-B009-E9056511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CDD38-421F-446A-A9BE-3FC43B49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1910-B4DF-4312-A514-66FC25FE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6463-7C48-4C93-B98D-8CF80A8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E725-5A58-41EA-B6D8-31CB5807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3FF5-6F92-4FBA-A58F-582BE77E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49FFD-3C1E-4D56-8D2F-F8E3FF48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49B7E-98FF-4A48-B7A9-7277D80E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2056C-F8A4-4B70-9E2C-D5199E62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A76F-3E00-4DC1-B5CD-6029CF41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FAB-C8A3-421E-8F4A-3D587D8F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55D6A-B7D6-4D10-AE06-68C8A333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2FE2E-6BCD-47DD-96B4-9F56C333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8B1DD-BF40-4653-96D1-5305C7F1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E85AD-DE0A-468C-A7CC-16C2BB27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D876F-50C9-47BA-89B1-8800F684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3D62-F022-4B81-85E8-A86736D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3AD9D-1E9C-4F4F-9D89-F6377267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86D19-7EF6-4B92-A8B4-0797AC13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24AE5-2B68-469F-95E5-FC17EF28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2DCD-EFEA-468C-B784-079E4003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651-4907-4A66-954C-E0D907A6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309C8-302A-4FDD-93F9-2014BB9E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5C827-B88E-41E9-916F-9148DC1A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2855C-FE76-440C-88CE-42B08A00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0506D-D3A2-4C63-9017-870D7D1A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D45A4-A405-4759-9B9E-FC881328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AB993-8ADA-471F-B3C6-9878BF48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8D04D-65A0-4161-AE96-D0EC972D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B0E1E-9D2B-4338-8805-A7A31689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1C841-2E23-46F7-B8FF-F79DC9F0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73195-0C99-4551-99AB-B5356E75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35B-7C52-4D38-93FF-B5CBB695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D61D0-EF33-42D5-B54A-81813C41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79B57-D0B1-4038-ABC9-F133A968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BB60A-CF3C-4DD8-B8E1-CD77EC97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12417-AC64-463C-8762-2C42646D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2F137-D9C2-4411-A882-6607A4A2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0A370-407B-4FB3-BD17-5F6D0DB4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DE8F8-B9A8-4C6B-8FC4-A3EC038E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A212C-DF42-49D0-8891-EA8CA83D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9F1F0-6B46-49D0-8B87-F9EA94CE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66199-AFC6-4C0B-A325-0CFC6A0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EE5-C00B-431B-8D8C-71B53717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1BCCF-1867-44D5-81D2-1D1CBC9B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23EFF-04CD-41B1-AB73-ADF3FDC9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CC005-1E66-4F2C-8878-DBD59FAB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7762E-990A-443C-9399-F156C74E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FBCC0-083F-43E7-8028-C219338D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4944C-3DA5-4303-9A24-DE1805DD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2024B-92CA-4121-862B-6E1B7D34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1EDAB-CE5B-4253-8778-E202B5C2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998AC-50F5-4DDB-9093-23039DA9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EB3A3-4975-4796-AA86-FF29E333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EDC-8D42-42D8-BA49-3C3124CC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976C4-5894-41DD-A683-FC5B3496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DD9BB-3680-471A-B596-03C37765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0A7A7-7415-4506-8EB3-3B4D60AB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8E7AF-71D5-4DAA-BB63-67EF7684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0973D-BC90-4BF1-BB92-3E16FA64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1BB-17FF-4C74-95C0-FB14AEC1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D6BB2-D0F4-4883-8C77-DBC18A9A824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604E4-3360-42FB-954A-B6D29429F77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CE48D-3540-4DA2-84AC-7BF7CA3B195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8F75D-2361-401F-9993-FCD3A2283D6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75320-96B9-405E-8C5D-56CFA25A926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29762-3FB2-4DE2-B65A-7DBC68E83D4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963FF-4FCE-463B-9A8C-3DACB01A983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EF774-6D4F-4018-A9C4-FBD08D64EBD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6F415-B2CB-40B2-81A9-C62D47F5690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6A5DD-CAB4-48C1-B56B-F2B33AA1655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AB49B-5D8D-4E54-A7AD-98278E6AC54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4BBCC-99C6-4666-91C1-5FB07DFEA76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BF338-4721-4E40-BA8F-E2EE3065906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AC543-7A5F-4E87-B7D2-04F8E89A787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logy.plosjournals.org/perlserv/?request=get-document&amp;doi=10.1371/journal.pbio.0020309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1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o infinity and beyond…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it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xt-mining system for scientific litera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ull body text sear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iological categor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Groups of terms describing a concep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ersonal cu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veloped by Hans-Michael Muller et al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art of WormBase at CalTe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xtensive C. elegans cu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Textpresso: an ontology-based information retrieval and extraction system for biological literature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uller HM, Kenny EE, Sternberg PW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LoS Biol. 2004 Nov;2(11):e309. Epub 2004 Sep 21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xtpresso.or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urrent Statu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Fork projec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osted on Sourcefor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http://sourceforge.net/projects/textpresso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nterface overhau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eavy integration with jquery datatabl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http://datatables.net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User login/registr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nage corpus through GU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ignificant code rewrite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odularization/customiz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Better database support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Plug-in API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jaxification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peed increase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code works poorly with MacOSX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uture Roadma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marter paper analy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thods tagg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tter PageRan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ferenc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-browser paper display/highlighting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la Google Book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etter command line functiona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per GMOD integr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ioperl mashu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/Suggestions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ml5566@gmail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23:44Z</dcterms:created>
  <dc:creator>Nathan Liles</dc:creator>
  <dc:description/>
  <dc:language>en-US</dc:language>
  <cp:lastModifiedBy>Nathan Liles</cp:lastModifiedBy>
  <dcterms:modified xsi:type="dcterms:W3CDTF">2010-01-22T18:17:10Z</dcterms:modified>
  <cp:revision>5</cp:revision>
  <dc:subject/>
  <dc:title>Textpresso</dc:title>
</cp:coreProperties>
</file>